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49.wmf" ContentType="image/x-wmf"/>
  <Override PartName="/ppt/media/image4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31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9.wmf" ContentType="image/x-wmf"/>
  <Override PartName="/ppt/media/image20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1BF1-CE6A-4BDA-9DC7-3F4111A2A4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BACF-8326-4BDE-AFB1-8A40E271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4D60-4A11-473D-B94D-965EFA43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0C40-AAB4-4F15-AC25-440750782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ECFA1-6DE0-4E03-97D2-95878FB6F4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9240D-E13E-493C-9E9D-3C8D255C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474FD-3F46-4C01-BDDC-1017D8F2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3CE69-E857-4E9C-8D75-A3B2012B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AA168-FA38-4BC2-BCDA-DEEBAE3B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09163-9120-48BB-B00A-AC02A230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FDD5D-AA81-423E-9AE7-8C42767C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AE24-5A7B-455D-96D6-251EFFD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C0262-F943-411F-824C-FC8AEDA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815B-64B8-4C2B-BBEB-51D8663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FD97-2EA9-4D11-8569-36F05A1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2FE0-0911-4B19-B1CB-2DB7642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39F86-1F01-4390-AD14-935A4E9BA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D71D-4BFF-4144-A6FF-83F4AC66FC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1384-9A5A-4C29-AECE-7A29CC6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4E48-4658-4A29-926B-6BCB26CD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E3B1-7E1E-4D5D-9C77-49C3E80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3E5-5026-466B-8C19-2A73E9CF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93D0-425D-4468-BE33-2BBC6367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C28D-B33A-4787-A4A2-FE9A717C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6491-D291-4784-B3A2-6985459A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AC8D-443E-4875-9437-407D2A51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8CA8-9012-4315-B5D7-94AFDDC2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F5AE-9F96-40D8-8E01-F6109AC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988D-070C-4373-A05F-36D4F45C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265C-B2D9-4855-A2C4-481893C8B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441A2-896C-4CD8-BF16-14297159C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A2CFC-E0BF-4BD0-A4E4-3F6848E8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3FEBB-12BE-47A8-A22B-BF4EB62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9120-FA9B-4FA2-AD4F-D0C73E58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00F37-5522-4393-B5EE-58FAE64A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8BE32-A804-4B0C-A2E4-E52F27E2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4319D-666D-40D1-BBDF-96834300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D4137-692C-48E2-80CD-5A3D322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4E456-BB29-491F-A3ED-A2969EB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37B91-56E0-488B-9BF0-26186FC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F8077-F194-4C56-8BA5-FEAE226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D5CAB-561A-4096-A591-034EC065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41E50-7FE2-4E72-8880-2FEBE7BC9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7CFAD-DAF5-4F32-8493-4FFCD83FD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2971-155B-48D3-B3B3-80E3C253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8D5D5-3A41-42A5-A697-D1643A2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E2589-4868-47A9-8789-A8474E3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4E172-24C7-462C-99E6-FB61CF8D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88B1D-5E2F-41EC-A7B5-AFC3866B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13B48-57DF-437D-B728-CDAC1CB5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24D4A-5D4C-4A85-8488-456A64C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32FB5-C554-413D-9057-BA4C0BC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04081-8531-4416-8953-05ED88A5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CA37D-AC76-4C73-B95E-7E725051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D5652-86C7-4089-852E-62ABA76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7054-20E0-49B7-AB60-D9096567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337F2-5637-4623-8837-35BBDC62C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68CA-0F21-4062-9B39-331400AA7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057D-CA17-45FA-BFA0-28A38187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457F-D507-4DB5-A16E-7C5438A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95CD-CF2C-432D-AAA8-F3A8EC7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8DC6-FB9A-4FDD-BA66-C033E817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B086-43E7-4D50-AF84-C5A54486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3510-9005-4C43-A81F-A985A3A4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CE5C-2B6C-4E57-AF3A-E2123AE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90D4-6DFA-451C-BD8F-18C5397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2204-26B9-4972-BBDF-F705495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F69B-DD59-4C9B-A617-AFE299E7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7DD9-349D-4F34-ADBE-50EFC8F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FC093-F4FE-4125-B19C-C876900B6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EC1AD-EEB7-4891-A5D0-8A39134F4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AD378-B58A-488D-9248-60FABE9F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0A467-B27A-4EC6-B5FF-507A035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4953B-ABB7-4650-8D85-38184FA8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26176-1991-403A-B7FA-C6AF62E8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4C7BC-83CB-41AD-ABFA-0286B5CD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5B522-A03E-4234-91BD-85C2554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ECF8-A86F-4F39-B529-B4E0130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DF41A-D37F-4A92-BC5D-4D72858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5BD08-A3B0-403B-8436-123D488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7A84D-0465-45AC-803B-39A1043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0BF54-16D0-4C90-8282-3F71612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6BAD8-8881-4900-90EB-5A866DD2D7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8C239-F7F1-4DA1-8672-1382C301E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CDDFC4-C658-4F8C-933E-54EEDB0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2683A-7969-41F9-98BB-A1118FD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228B2-D996-4B88-A580-9627C87B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B7C89-CE9D-40D5-A993-7EE0E355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4CB5-E72C-47E2-BD6E-F2A30B1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E44A36-FD2D-4F3C-A159-A6EB7926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DDEC7-2FCB-4BDB-9FCF-EA5B4035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36107-27BF-4C9F-8B2B-F37A774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1A4F6-3A38-4AFC-B250-155F854B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4089C-7276-4139-8633-9612619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D4E09-71F3-4057-BC51-01A80D9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9E06B-8C2F-4432-92CB-F9457907F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slideLayout" Target="../slideLayouts/slideLayout13.xml"/><Relationship Id="rId31" Type="http://schemas.openxmlformats.org/officeDocument/2006/relationships/slideLayout" Target="../slideLayouts/slideLayout14.xml"/><Relationship Id="rId32" Type="http://schemas.openxmlformats.org/officeDocument/2006/relationships/slideLayout" Target="../slideLayouts/slideLayout15.xml"/><Relationship Id="rId33" Type="http://schemas.openxmlformats.org/officeDocument/2006/relationships/slideLayout" Target="../slideLayouts/slideLayout16.xml"/><Relationship Id="rId34" Type="http://schemas.openxmlformats.org/officeDocument/2006/relationships/slideLayout" Target="../slideLayouts/slideLayout17.xml"/><Relationship Id="rId35" Type="http://schemas.openxmlformats.org/officeDocument/2006/relationships/slideLayout" Target="../slideLayouts/slideLayout18.xml"/><Relationship Id="rId36" Type="http://schemas.openxmlformats.org/officeDocument/2006/relationships/slideLayout" Target="../slideLayouts/slideLayout19.xml"/><Relationship Id="rId37" Type="http://schemas.openxmlformats.org/officeDocument/2006/relationships/slideLayout" Target="../slideLayouts/slideLayout20.xml"/><Relationship Id="rId38" Type="http://schemas.openxmlformats.org/officeDocument/2006/relationships/slideLayout" Target="../slideLayouts/slideLayout21.xml"/><Relationship Id="rId39" Type="http://schemas.openxmlformats.org/officeDocument/2006/relationships/slideLayout" Target="../slideLayouts/slideLayout22.xml"/><Relationship Id="rId40" Type="http://schemas.openxmlformats.org/officeDocument/2006/relationships/slideLayout" Target="../slideLayouts/slideLayout23.xml"/><Relationship Id="rId4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8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6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9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2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8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1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4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7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0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43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46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49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2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5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8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1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4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7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70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FAE45-7BEE-48B1-8827-630C8698EA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14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14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15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15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15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16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16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17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17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17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18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18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7"/>
          <a:stretch/>
        </p:blipFill>
        <p:spPr>
          <a:xfrm>
            <a:off x="-6480" y="243216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8"/>
          <a:stretch/>
        </p:blipFill>
        <p:spPr>
          <a:xfrm>
            <a:off x="-6480" y="907920"/>
            <a:ext cx="9156960" cy="153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9"/>
          <a:stretch/>
        </p:blipFill>
        <p:spPr>
          <a:xfrm>
            <a:off x="0" y="460440"/>
            <a:ext cx="9144000" cy="58658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4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E7EC326-FFDF-42B5-9BF4-C45C29EB38B9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0"/>
    <p:sldLayoutId id="2147483663" r:id="rId31"/>
    <p:sldLayoutId id="2147483664" r:id="rId32"/>
    <p:sldLayoutId id="2147483665" r:id="rId33"/>
    <p:sldLayoutId id="2147483666" r:id="rId34"/>
    <p:sldLayoutId id="2147483667" r:id="rId35"/>
    <p:sldLayoutId id="2147483668" r:id="rId36"/>
    <p:sldLayoutId id="2147483669" r:id="rId37"/>
    <p:sldLayoutId id="2147483670" r:id="rId38"/>
    <p:sldLayoutId id="2147483671" r:id="rId39"/>
    <p:sldLayoutId id="2147483672" r:id="rId40"/>
    <p:sldLayoutId id="2147483673" r:id="rId4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51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4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263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269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275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278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281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284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287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296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299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6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9D55DD8-B764-41F4-9254-8809E6985621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35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36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37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8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38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38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38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39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39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39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40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40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41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41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27"/>
          <a:stretch/>
        </p:blipFill>
        <p:spPr>
          <a:xfrm>
            <a:off x="-6480" y="495000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8"/>
          <a:stretch/>
        </p:blipFill>
        <p:spPr>
          <a:xfrm>
            <a:off x="-6480" y="3425760"/>
            <a:ext cx="9156960" cy="1536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7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8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5AA0B2A-FA18-49A1-AB46-33CE3834344A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468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471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474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477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480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483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486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489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492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495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98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501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504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507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10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13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16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519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522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525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528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0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9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10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9ABC811-3527-4A7E-A9FA-197FDB10225E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573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579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582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585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588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594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597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600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603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609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612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615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618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621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624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627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630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33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36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39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642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4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1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92C0D5E-5B71-47AD-BE73-735674D54284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693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696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699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02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05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08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711" name="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17" name="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720" name="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723" name="" descr=""/>
            <p:cNvPicPr/>
            <p:nvPr/>
          </p:nvPicPr>
          <p:blipFill>
            <a:blip r:embed="rId14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1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4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F236199-D2E4-4A35-AFDE-66D9329537D8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770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773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776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782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85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88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91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94" name="" descr=""/>
            <p:cNvPicPr/>
            <p:nvPr/>
          </p:nvPicPr>
          <p:blipFill>
            <a:blip r:embed="rId10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97" name="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800" name="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803" name="" descr=""/>
            <p:cNvPicPr/>
            <p:nvPr/>
          </p:nvPicPr>
          <p:blipFill>
            <a:blip r:embed="rId13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809" name="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1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16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B40528A-D8D7-430C-8BCE-91A283132068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ndrew Jacks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Nullification Cri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ariff of 1828 – Tariff of Abominations – on impo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outh argues it’s unconstitutional – enriches North at the expense of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ullification – (like VA &amp; KY Resolu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C threatens to secede – Calhoun resig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ce Act – Congress gives Jackson right to collect tariff by force if necessa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GREAT COMPROMIS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6031080" y="4495680"/>
            <a:ext cx="291780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Bank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icholas Biddle (banker from Philadelph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fforts to renew charter of Second Bank of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enew early &amp; Jackson vetoes – tool of the privileged e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ckfires on Biddle &amp; Bank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thdraws federal money and puts it in state bank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t bank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6465960" y="4637160"/>
            <a:ext cx="22208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22360" y="574560"/>
            <a:ext cx="816444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3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higs – former Federalists, evangelical reform churches, favor government intervention in economic and social affairs, commercial agriculture and industri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emocrat – Martin Van Buren –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mall farm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Urban worker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ppose rapid industrialization, factory work and commercial agricultu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7388280" y="2987640"/>
            <a:ext cx="129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ransportation R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tween 1800 and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vate investment - Turnpi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tes provided funding for roads, canals, 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Road – only federally funded 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yland to Illino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5602320" y="4272120"/>
            <a:ext cx="308448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Indian Remov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523880"/>
            <a:ext cx="417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Removal Act – all Indians must move west of the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v. Georgia, Worcester v. Georg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rail of T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4,000 of 18,000 die along the w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4629240" y="2035080"/>
            <a:ext cx="40575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anals &amp; Steamboa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rie Canal – connected Hudson River with the Great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in the West were linked to the natio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cilitated movement West into Louisiana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boats allowed upstream tra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obert Fulton – first in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6329520" y="4917960"/>
            <a:ext cx="18176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Railroa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de wealthy investors even more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&amp;O Railroad – Baltimore &amp;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ttle of gauge resolved by 185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ndard gauge vs. narrow gau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5854680" y="3429000"/>
            <a:ext cx="3129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ommercial Agriculture in the Old Northw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could now ship to previously unreachable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specialize – different regions grew different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owever, farmers became dependent on distant markets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Deere – steel pl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yrus McCormick – mechanical reap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5865840" y="3819600"/>
            <a:ext cx="2157480" cy="144756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993000" y="5197320"/>
            <a:ext cx="21510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ffects of the Transportation Revolutio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pride &amp; identity – no longer contained in the 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k-taking mentality – spurs innovation and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Greater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5504040" y="3487680"/>
            <a:ext cx="1865160" cy="26082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830160" y="4371840"/>
            <a:ext cx="18162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xpansion &amp; the Limits of Suff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fore 1800 only white, male, property owners could vote in most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al power was concentrated in hands of a f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20, most states dropped property qual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40, 90% of adult white males could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omen &amp; African-Americans still barred from vo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ost liberal voting policy in the wor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6688080" y="5119560"/>
            <a:ext cx="1773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reating a National American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 powered p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elegraph – communications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92280" y="3978360"/>
            <a:ext cx="2427120" cy="178596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4572000" y="3059280"/>
            <a:ext cx="342252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2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nd of Era of Good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ur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ndrew Jackson – gets most popular vo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Quincy Adams – winner in House of Rep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becomes Adams’ Secretary of St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illiam Crawford– not a facto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rrupt Bargain?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6230880" y="4518000"/>
            <a:ext cx="180828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New Popular Democratic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ew state organizations of political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arty loyalty was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ss campaig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nt media got information to mor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s became part of everyday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e of sectional polit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aniel Webster – New Engla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Calhoun - Sou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6075360" y="4713120"/>
            <a:ext cx="261144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Election of 182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.Q. Adams vs. Andrew Jack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ns easily – John Calhoun is V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Andre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Mob – Inauguration Pa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alition of North, South and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mmon Man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6796080" y="3741840"/>
            <a:ext cx="223380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 Backgroun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rphaned by age 14 – spott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lashed by British soldier in Revolution when he refused to polish the soldier’s b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oth brothers and his mother died in Revolution – mom was nursing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untry lawyer, merchant, planter – own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riage controver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13 duels – one man killed – let the other guy shoot first and Jackson was hit in the ribs but return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Popular Fig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" y="1523880"/>
            <a:ext cx="404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Fi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ro of the Battle of New Orl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ctions in Seminole War helped gain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5216400" y="1908000"/>
            <a:ext cx="36435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ian Democrac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523880"/>
            <a:ext cx="501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 the “common m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poils System – give government jobs to friends and loyal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ggy Eaton (w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fe of Sec. of War)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and the “Petticoat Affai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421320" y="3930480"/>
            <a:ext cx="171468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Strong Execu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tchen Cabinet – ignored Cabinet in favor of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Veto – more than all other presidents before him comb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4905360" y="3284640"/>
            <a:ext cx="3259080" cy="3267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1192320" y="3703680"/>
            <a:ext cx="24908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55:24Z</dcterms:created>
  <dc:creator>Pamela</dc:creator>
  <dc:description>Abstract, circles and flower design for multi-use presentations.</dc:description>
  <cp:keywords>abstract yellow orange red circles flowers warm hot summer spring bright</cp:keywords>
  <dc:language>en-US</dc:language>
  <cp:lastModifiedBy>pcarter</cp:lastModifiedBy>
  <dcterms:modified xsi:type="dcterms:W3CDTF">2012-05-03T11:12:07Z</dcterms:modified>
  <cp:revision>32</cp:revision>
  <dc:subject>Abstract presentation design</dc:subject>
  <dc:title>Main title</dc:title>
</cp:coreProperties>
</file>